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0E4-8292-4594-A89A-B50A0B1F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BFF-E0A2-4834-BDBD-FE1FC9E3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DD4-021A-47F4-B55B-6855534F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AC5-DD17-476E-8595-030C47B1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79C-5F5A-4D76-961D-5D2926C5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3D8-DBE6-4AEB-8BBB-99D6823A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3447-B171-427D-8D94-0272F1CD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D0E-B18E-413F-ABEB-0C7208E9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A20-3C29-45E6-897F-7B49A4BB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43F-DA47-472D-BE9D-C5BD64BC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B64-8FFD-4A63-A050-86F70658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E7F-041D-43C3-9FEB-8CC7916D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DAB4-073D-4C41-8007-5834F7F36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F Representation using Detailed Clinical Models of Patien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8560" y="1219320"/>
            <a:ext cx="904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-year-old man with diabetes was referred to the Hypertension Clinic in Jich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School Hospital with symptoms of dizziness and orthostatic intoler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2, he started insulin therapy (Hemoglobin A1c 9 %), and in 2004, he was sta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 once daily dose of valsartan 80 mg for hypertension. He sometimes complai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izziness and fainting while standing. On 13 February 2005, he fell down wh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ing a bicycle. As the clinic BP was 84/60 mm Hg on 14 March, and the valsartan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ped. He was referred to otolaryngology and neurology, but no signific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normalities were dete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l “Tripl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sex 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age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disease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referred-to "Hypertension Clinic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Hypertension Clinic" department-of "Jichi Medical School Hospital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symptom dizz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symptom "orthostatic intoleranc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therapy "Insulin Therapy"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started-i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lab-result HemoglobinA1c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value 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measurement-date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therapy Valsartan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dose 80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frequency "Once Daily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started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stopped "14 March 2005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symptom dizzines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frequency Some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symptom fainting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position "while standing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history "fall"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activity "riding a bicycl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1 vital-sign B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systolic 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diastolic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measurement-date "14 March 2005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referred-to otolaryng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 referred-to neur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([P1 clinical-finding abnormalit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...] emphasis signific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95840" y="2743200"/>
            <a:ext cx="1761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Assertion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74240" y="696960"/>
            <a:ext cx="1771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dcm: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1219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53800" y="176364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560" y="2743200"/>
            <a:ext cx="184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izzinessAs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895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0040" y="259092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3960" y="4114800"/>
            <a:ext cx="1471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Valu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59800" y="344016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8800" y="5410080"/>
            <a:ext cx="9122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C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5960" y="5410080"/>
            <a:ext cx="1469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666880" y="44197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4419720"/>
            <a:ext cx="16002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21000" y="48117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26480" y="481176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57680" y="4049640"/>
            <a:ext cx="1761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Assert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12480" y="3363840"/>
            <a:ext cx="8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36160" y="5421240"/>
            <a:ext cx="1905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rtion_KEY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1080" y="465948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04160" y="2743200"/>
            <a:ext cx="1023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Resul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8960" y="696960"/>
            <a:ext cx="1771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dcm: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219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58520" y="176364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5400" y="2743200"/>
            <a:ext cx="1430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LabObsQ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895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0360" y="259092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62800" y="4114800"/>
            <a:ext cx="557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%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64160" y="344016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72440" y="5410080"/>
            <a:ext cx="755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P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80680" y="5410080"/>
            <a:ext cx="1469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371600" y="44197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4419720"/>
            <a:ext cx="16002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25720" y="48117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30840" y="481176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96280" y="4049640"/>
            <a:ext cx="4007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moglobinA1c/Hemoglobin.total:MFr:Pt:Bld:Q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17200" y="3363840"/>
            <a:ext cx="8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40160" y="5421240"/>
            <a:ext cx="2833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ObsQn_KEY_DOMAIN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45440" y="465948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8120" y="2274840"/>
            <a:ext cx="1666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pMeasuremen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78960" y="228600"/>
            <a:ext cx="1771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dcm: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7509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58520" y="129528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1440" y="2274840"/>
            <a:ext cx="2849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iastolicBloodPressure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2427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0360" y="212256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2440" y="3646440"/>
            <a:ext cx="497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25797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64160" y="29718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72440" y="4941720"/>
            <a:ext cx="755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P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80680" y="4941720"/>
            <a:ext cx="1469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zziness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371600" y="395136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951360"/>
            <a:ext cx="16002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25720" y="434340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30840" y="434340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97720" y="3581280"/>
            <a:ext cx="3423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stolicBloodPressureMeasurement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579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17200" y="2895480"/>
            <a:ext cx="8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38000" y="4952880"/>
            <a:ext cx="3006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stolicBloodPressure_KEY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8750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45440" y="419112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24360" y="6019920"/>
            <a:ext cx="567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50120" y="549756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9520" y="5562720"/>
            <a:ext cx="3429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sureUnitOfMeasure_DOMAIN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59000" y="6400800"/>
            <a:ext cx="1227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Hg_E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828800" y="5715000"/>
            <a:ext cx="1981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6172200"/>
            <a:ext cx="3124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16800" y="572616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31200" y="618336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: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22:35:48Z</dcterms:created>
  <dc:creator>Partners Information Systems</dc:creator>
  <dc:description/>
  <dc:language>en-US</dc:language>
  <cp:lastModifiedBy>Partners Information Systems</cp:lastModifiedBy>
  <dcterms:modified xsi:type="dcterms:W3CDTF">2008-02-12T15:28:55Z</dcterms:modified>
  <cp:revision>11</cp:revision>
  <dc:subject/>
  <dc:title>RDF Representation using POMR of Patient 1</dc:title>
</cp:coreProperties>
</file>